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45E5-3103-48C0-8AD6-5B23C6B72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F99-F8A1-4C41-9D70-C7B7B669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9B3-341C-425E-8913-8C85CF7F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E473A-6875-4D96-97E4-48E745A4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C7D53-624D-4C94-85EA-CD46BF1B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5582D-083E-4093-88A4-BF78A50D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EECE3-EDD9-4A4B-9897-B54FCA6B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80A5E-C65D-40CD-A400-90EF908F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A6917-416B-44D6-ACC4-806F1E70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99514-565F-42E4-B565-DA8CA7A9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153AC-D6FC-47A7-A2EC-E0189B96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D985D-022D-4E77-AE69-55B2A782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7A97D-6300-435B-9225-4C55E247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597-9485-4A26-A9A1-24CF71DC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689FB-19C8-45AA-9EE9-D375842D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7609E-3573-491E-9C65-0312B9D0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25FDF-2E47-41AF-9911-F90D27CA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B9A67-0AF2-4C34-9499-F65F80DA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715A7-FC64-44F0-A2C8-94E6199B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9C49F-3162-4573-85C6-F5677A5C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5CD3F-53D8-492F-81D5-1B1631F6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3426A-9C40-432D-AC24-4D3D6BC3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AA619-3A91-4B64-B40F-07C72590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564F9-AE26-42AB-A09A-4E879980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598-D6D0-4682-98F6-D044DE7C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51999-3243-472B-933A-D12AFEC9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A0839-9725-48C5-973F-5BCD44BF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1307-6EAD-4C4E-ACDB-8E0F0EB6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89011-06DC-47ED-BFF7-EA7307B3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AE9AF-9F89-4CAD-A347-A5330635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3B0BA-AAD3-43C6-B744-A7A78871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ACE50-C364-4F6E-A0B6-4D743B76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A126E-5C95-4090-AAC1-1C5ABC7A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7C888-4C26-4B48-A3E9-6B02B56F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9121D-F16A-4AB4-8BA7-DF6C0159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96CC-B260-4406-9135-257F523F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D953D-38E8-41FD-9A6E-D9E61A91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CCC85-A3F6-4C30-AD3A-0FF10CA3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6D4E9-3F03-409F-AD32-82FA6716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A9B1F-58C6-4738-A51D-8CA26CF3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C0A23-7E5F-43A8-931E-EA45C2DD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77DEC-641D-4995-B813-EF857AD1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84310-FDA8-470A-A638-7E58704A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3035F-B3C6-479F-A58D-CB039CF8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FCD21-723B-45F0-B49E-FA85BBC3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E8233-9376-45F6-B8C3-F0077163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639F-08D0-431B-80FF-2EB08066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0593C-EAD4-4EA4-A5DA-FFA580B3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D3D84-81E1-4DEA-8206-6FF6C394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F0A26-0752-41AE-AEBF-73268C52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E94FA-51AD-4CA4-AB37-945B6301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F5C55-9DB7-45D8-8E81-C7FBDF13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D7732-717F-4510-AAEA-7B414480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8275F-0355-4D69-8FB5-F2DDFA64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2D830-B59E-4F4A-A542-231D3A2A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ABF69-9412-4413-95E5-C2E91004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21ED7-6526-415B-94C1-5AB39156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3E52-E4F3-4B37-A39E-BC0B43C2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43CD3-1280-46F6-BA5E-24F8AB2C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1D65D-59C1-4B9D-8503-BD4DD5D9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327DF-CEFE-41ED-A2E8-B2C89550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91917-2D94-485D-B4E8-457EF09C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FE28C-E47C-4FD8-A5CF-5035AEED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83229-FB30-4967-98C1-256CF0DB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5217D-9CE8-4F0E-B771-105582D0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1028-6FB3-43C3-B271-28A1ED23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FB3B-9A02-4541-886E-46993F67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2D61-BC8E-4320-9015-797C0A05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2C1F-2FAA-4DB8-9261-D72CA9BE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9B5-8443-479F-8CBE-42CDD889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A9B9-66C2-4191-80DD-E74586EB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BCEC-11B7-41E1-AE83-D868C3AA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5037-1E30-41A9-9495-85C33DAA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54A9-800E-4CD3-88E7-519C3925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BBBC-6F0B-452E-B625-CD468A85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68F2-4647-4D99-95EC-8FB75884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53D99-EAF7-4E45-9F8C-42048E59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9BAE5-B4BA-4878-9CB1-2F95E1E5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5325-5685-4F08-8BDD-F03A5BA4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FAD9-E1F6-4FDF-9605-E8F5CBC9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C58-6904-457B-8BD4-D54D5E10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BBB65-D987-44ED-B759-FE0B361E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A8F69-703F-4133-8337-DBB04749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9C8C7-6930-4C69-A62A-AF8A5EF7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6B30-D16D-45E7-B0C4-445C6736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4E993-59F5-4B49-BF17-7AB91856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1DBE0-994D-48DE-ACC5-00345DC2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64718-905B-4866-BE87-28DFA405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06062-D5F0-4FC8-9BE7-EECF71BB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44147-EC9B-4B90-8EDA-F096C4CE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0C08-BAB6-4575-9F2D-4CD97252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A22-2821-4F11-B9D0-1D563D28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49D2-48E9-413A-B2A2-8B3A36F7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B1B17-B16D-4363-B44F-B67CC9D6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B8E6B-563C-4BD6-92B2-1EA6290E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124BF-5344-4170-A7A9-EDD8385E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8C1D-3077-4F2E-B1A8-BA91EAED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10E91-4556-4670-A13B-ADFB1699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7CC12-31FB-4DCA-9182-692E34CA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53DFB-48E4-46DA-AF5A-A6A91886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412E8-B943-4EB1-8FF8-88C3339D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05793-F7C2-4794-8FC4-5A70045B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979-F973-4858-AC70-ABE5FA5C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77328-A74B-4340-BB56-41BA73D8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2BC16-5CD5-49D6-AE04-C45B42B2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73DAB-1885-4002-BBA1-605FD79B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18C63-E719-4981-9BED-6BF865FA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CF458-835B-449C-8CB2-A5E9F016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67BBB-9D32-4743-9F17-1EB94EF4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D82B-B36E-4A5D-9D21-97821F64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75D9C-7DC7-4C96-91BA-14503667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143D6-975C-4E2C-98BE-60D161E5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3A4E-357D-4C13-8AC7-CAF0E0E9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6FD-D85E-4C74-8B2B-89A0505E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10B09-A9AA-46A2-A09B-62D989D6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A2C7D-10CB-44ED-B56E-BB5D248C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AC38D-C394-4856-95E0-B8A9E724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E10E7-B223-409F-B835-37AB4F11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09ADB-66F7-4626-8675-B4830A18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3CE85-B8A2-420A-B765-2127EB34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7D6F7-282F-4312-AE4C-3B735105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BBB36-CD0D-42C6-94FF-54877BEF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2B920-C019-4FC8-9150-BF19EF4D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35832-02CE-4F27-8AC7-2841BD12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1C7-9A6E-4F62-A321-551AA20B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388B7-D2BA-4C82-AFE3-3342B04B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F539B-E9F5-466F-A40B-6BBB4848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CB35A-663C-4989-88BC-E49DC333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0116A-39FE-4691-B1A8-47ACCA9C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E2C8A-DB26-41AF-9567-83059AFE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B9427-F9EF-4F99-98A3-DF4EC144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3F18E-032D-40B8-90A8-01253C3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31E84-6793-4A08-BFB9-F922BDE8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1C10B-2C6A-4350-BA57-79F659F1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A8EB9-BB18-4286-B226-4B45BF9B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5BD-C1B3-4ACF-8053-6D02D3C1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680E7-7905-436A-B102-BF5144F3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9FB1B-B466-47D4-82EE-4AF2D4D0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8ADF6-16DC-4E39-B897-566BAAF1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7454C-FF6E-4923-BDC0-4C44A4D9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8E485-EB4B-42AD-AA16-2DD508BA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96B2C-49A8-40DF-B0B7-B6ED583C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7208B-0704-4338-AF87-A82F9814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BA6AB-538E-4500-90AC-6CE33B77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F94DB-1D9C-408C-87B8-2BD9820D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B1012-BC10-489C-9EDE-18D83A1D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F47-E649-4E9F-8723-B8379CE3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D9CB3-34A9-4D6E-9EE4-489F68D8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269E8-051B-4807-ABA4-254F1233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ABC91-51A3-4C7F-87CF-4610018E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22456-D9E8-4376-B308-A10EC59B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4CCE3-E9B6-43FA-AB7D-0CF62BE5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732FA-97F2-4969-A00D-0180A052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88EE2-9974-43C7-9DA4-469963A6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0D2CA-A5F9-4C6C-BF54-4874CB18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FC608-B505-4D32-BF12-0BCF4984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11B11-8DEE-4952-8248-F2977D8F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B3C5-E32B-4660-9DC3-A3C56EAC66B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CFF3-B65F-4287-BA95-643CDA9CF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5863-92B1-4D4A-B23F-EB2AB20EA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ADF9-E563-47AF-B65B-8161AC47FD8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806A-EA0B-462F-8D15-0FA010283B7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4E35-AD14-4906-AA5B-2224531AE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A3AD-210D-409F-9798-41460DD66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F3A6-65CB-4F7A-B88A-8751489EAB2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5A78-4CE0-4FEE-B135-313D58552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81E5-4757-42CA-964C-3A437B905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80CF-3899-4A14-9D19-EB4B28A36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78E4-7C08-4DB9-B926-F75E10EB4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4B4D-BEEF-48FC-BB1C-65ED34700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8:30Z</dcterms:modified>
  <cp:revision>14</cp:revision>
  <dc:subject/>
  <dc:title>Sexual Reproduction</dc:title>
</cp:coreProperties>
</file>